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B44-D9A2-4B4A-933E-1C81F322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84C-3ED4-41E6-9F1E-F592A61D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0C4-515E-42FA-A14A-29AA64DB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AA6E-95A6-47CC-BD73-451C55FA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208D-22C3-4AE5-8F6A-8077FA01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1499-7366-4CFE-92C6-5C6D0A8D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E13F-BB08-4AF3-9A30-6B178A7E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8B75-DDFA-4E1C-9FD5-7DA50AC4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9F67-9665-4F14-ACFA-A9840769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2974-C92E-427D-876C-E3EE0D46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5999-AA19-4C5F-82CD-A22B6698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B3A3-6CE8-45C7-818B-7F05198C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5B65-1CA1-4EAD-8124-869946D2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ECE8-C0AC-4670-89AC-FA094BBC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B66A-67AC-48CB-88E0-FD3E23B8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0D29-3BC1-428B-85CD-BC5A0871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9DA6-399A-4CE9-9379-F745D95E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819F-56A4-441C-887E-7DCBB439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61F-ACE3-4870-90AD-B38D2321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683B-0843-4BF9-866B-F96303BA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0E68-8931-4A12-A332-ADA5AD94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C11D-BEA7-4E05-B338-FEA1E354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58B-8FDE-47A1-B08B-5541FBF7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1C88-379B-456B-B661-AAC19B99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45C0-C5A6-49E0-B2BA-6E45FD4B6F2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5918-A20F-4574-922D-7970103E13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068C-7BFE-4C79-97F7-11CD8CFA583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F4BA-B19D-4491-A5B1-5D50F8112D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6040" y="1338120"/>
            <a:ext cx="113252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新教材新课进度计划和分层培优讨论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01400" y="3238560"/>
            <a:ext cx="935028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刘秀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2022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5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11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3040" y="20271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高中物理新课进度计划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258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分层教学做法和讨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764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基本根据每个老师所教班级为主按成绩分成三个层次，同时全年级物理统筹安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相对较小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较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个学期根据年级组分层教学计划次数，提前预估教学进度，做好分层教学专题计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次培优根据层次不同，所教内容有所区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备课组先讨论配有内容，相应负责老师出专题，同一份资料，区分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,B,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三个层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问题：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楼层走动和纪律问题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人数较多，效果有所欠缺，不能很好的达到针对培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1T00:47:47Z</dcterms:created>
  <dc:creator>Administrator</dc:creator>
  <dc:description/>
  <dc:language>en-US</dc:language>
  <cp:lastModifiedBy>Administrator</cp:lastModifiedBy>
  <dcterms:modified xsi:type="dcterms:W3CDTF">2022-05-11T01:24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506</vt:lpwstr>
  </property>
</Properties>
</file>